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1FB9-410E-4424-8110-B7DA08955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0400-55B7-4C1D-8A75-F7B30D2A4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C0F1-93D5-496F-8EC5-798C9DDC9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2A39-2E7B-4DF5-8945-32B46AFD8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BC86-ECAC-4422-A2D7-5D7B2C7DC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43B6-F2B7-4991-A81A-BD6C90BEF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F7F9-7F2D-47EB-A712-15741F25B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1CDF-D1D6-44E1-8379-D82B0EC2B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D28B-12EA-4A94-9EF6-F4DF6BC0B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B585-7B99-431D-A968-68F6DAD55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E1EF-3FAB-4C2A-85D1-1E2A03043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8028-8932-4C32-8495-C49ECAE3B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50C082-385D-4FE4-BC0B-3C18BE7049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28T13:18:03Z</dcterms:created>
  <dc:creator/>
  <dc:description/>
  <dc:language>en-US</dc:language>
  <cp:lastModifiedBy/>
  <cp:revision>0</cp:revision>
  <dc:subject/>
  <dc:title/>
</cp:coreProperties>
</file>