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B5D0-19BA-42FE-A0EB-6E5017FD4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C405-2EDE-47DA-8145-CB99CA2EA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C002-3BEF-4E5F-A733-1B84BEDEA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5EDE-8686-40B0-88C0-AB80F762F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BB9D-367D-4872-815D-A143A33FA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7399-2A9E-4FA6-92CE-AAE492B5F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4115-962A-4591-8CA0-6932F494E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2D64-5A80-4599-ACAB-B8E7CAD5F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5BE8-8C8D-412C-820C-34154C90A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EF6E-FE2E-4110-9F83-3A5C5675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9950-7BCA-4997-9DED-B1EFCF26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8D74-60D2-432F-9191-94B9D4A0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D5F6B1-4E11-4A3E-A3DF-FB2515DBF8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28T13:18:03Z</dcterms:created>
  <dc:creator/>
  <dc:description/>
  <dc:language>en-US</dc:language>
  <cp:lastModifiedBy/>
  <cp:revision>0</cp:revision>
  <dc:subject/>
  <dc:title/>
</cp:coreProperties>
</file>