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26409"/>
        <c:axId val="8132771"/>
      </c:barChart>
      <c:catAx>
        <c:axId val="42726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2771"/>
        <c:crosses val="autoZero"/>
        <c:auto val="1"/>
        <c:lblAlgn val="ctr"/>
        <c:lblOffset val="100"/>
        <c:noMultiLvlLbl val="0"/>
      </c:catAx>
      <c:valAx>
        <c:axId val="8132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6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FE5-C663-4307-BC94-A6C8F888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284-5A04-4958-A3D0-7A3FBEB6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7AE-442E-4DC0-BB1C-E9A373F0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89C-6D02-478F-9BDF-A50EC29A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404-623B-4837-8796-50B0E20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0A1-FDDE-4074-85A7-CAD13C3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617-B18C-40B8-B75A-F23EDCC3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138-7A10-4743-A623-BA6BAE1E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69A-12EB-491A-8C49-8396F78D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694-44D3-415F-8E24-A5D59A9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7B4-FD38-4D33-A999-37416F7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9D3-D216-4DCC-BDF2-20CA103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69989-2FAA-4DB2-8403-DE8A35967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