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35373"/>
        <c:axId val="52809104"/>
      </c:barChart>
      <c:catAx>
        <c:axId val="29635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09104"/>
        <c:crosses val="autoZero"/>
        <c:auto val="1"/>
        <c:lblAlgn val="ctr"/>
        <c:lblOffset val="100"/>
        <c:noMultiLvlLbl val="0"/>
      </c:catAx>
      <c:valAx>
        <c:axId val="52809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35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E40-FA08-430E-82C3-ECF28F07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2A1-AE7F-4B75-B598-A2F4FB64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432-3678-4D8B-9408-9789251E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5F2-2B44-4410-9378-BA1B6B59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22B-0BFA-4DAC-BF7F-74E25A63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0CB9-6658-4D41-8371-580AE891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1D9-4FDE-4083-9D2D-073466D1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C191-B086-41F2-92A5-7F5FBE36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6F9E-A055-4921-A8BB-A53E4A95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9FCE-AA62-4054-AF1D-54F52FFE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EBD8-C01A-47EA-BC23-5326DAD2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18C7-363C-4F9B-89CE-17BC5C52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5E3B1-25F5-476C-A609-ABE9855CD6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