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81546"/>
        <c:axId val="79235709"/>
      </c:barChart>
      <c:catAx>
        <c:axId val="299815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35709"/>
        <c:crosses val="autoZero"/>
        <c:auto val="1"/>
        <c:lblAlgn val="ctr"/>
        <c:lblOffset val="100"/>
        <c:noMultiLvlLbl val="0"/>
      </c:catAx>
      <c:valAx>
        <c:axId val="792357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815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1F31-9DF7-4AF4-B613-2419896E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481B-3D81-479F-9B73-C4621DBE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215-48F2-487C-AA76-1C797401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C6E-88B1-4C9D-B489-B767FB1B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73F3-6405-4037-B755-9446269A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39BA-F6F7-4EA3-A1BD-2963C237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2D1-30FC-4E61-887D-637BBC74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8675-D364-4D7F-907A-8846E28F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ACC7-BB1A-4A38-97F7-F43D5F7A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1BD8-85C9-4CB9-98E9-62C6B7DB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B9B2-EB08-42AC-9858-EBCF03F1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9F76-5226-43D6-8BC3-7930620C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44098-8D76-433A-9293-DA22C54773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