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5204887"/>
        <c:axId val="39578955"/>
      </c:barChart>
      <c:catAx>
        <c:axId val="1520488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578955"/>
        <c:crosses val="autoZero"/>
        <c:auto val="1"/>
        <c:lblAlgn val="ctr"/>
        <c:lblOffset val="100"/>
        <c:noMultiLvlLbl val="0"/>
      </c:catAx>
      <c:valAx>
        <c:axId val="3957895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20488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CE3A6-6D5D-4121-BF01-A5A9EA403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A40B9-ABEC-4B1E-8D3B-5E01ED8DA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EE9A2-7C84-48C0-AD44-DB5F6114B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F5F81-21A6-4252-BAAC-1110344E4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AAA31-29ED-45BE-99AF-A2246F03F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D5421-50B4-4C3D-8D6B-5A4B0D2F1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1D869-6058-4209-9AF5-D3EE8EA27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9D73B-B3AA-4BB4-B431-D4FC4535C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0E798-368B-4CCB-A1C1-0129CF7CA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6706B-BE7A-4AED-B757-E6BB84473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C5963-DAB5-42AE-9A09-9967EC4B0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736D7-1415-4E90-AA7D-62D6043C1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72C06C-57E9-4EF9-BEEE-022872222AD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