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45491"/>
        <c:axId val="22592551"/>
      </c:barChart>
      <c:catAx>
        <c:axId val="22345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2551"/>
        <c:crosses val="autoZero"/>
        <c:auto val="1"/>
        <c:lblAlgn val="ctr"/>
        <c:lblOffset val="100"/>
        <c:noMultiLvlLbl val="0"/>
      </c:catAx>
      <c:valAx>
        <c:axId val="22592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5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9BC-509A-4751-B996-6C9B68E6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736-D68D-4A93-932C-270F60D3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04E-9AE6-44B8-8D00-9DED6C35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631-7616-4D38-9791-DE3E4831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553-381F-4A7D-B426-D2104DF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0A5-6E8D-4EAF-AB03-0D0EBE6B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E44-961A-425A-BFE3-18506D0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83A-21C9-4941-8C08-CF7392B3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5DE-81E8-4492-AF98-9CB340A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2D6-3726-4214-A28E-FA43900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503-EE60-4E11-BC44-5C53E04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CBF-E8E3-4B0E-A0E6-CEC2631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0C44-0CC4-49D8-95C0-E9ACDB00E5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