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449508"/>
        <c:axId val="61944007"/>
      </c:barChart>
      <c:catAx>
        <c:axId val="694495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944007"/>
        <c:crosses val="autoZero"/>
        <c:auto val="1"/>
        <c:lblAlgn val="ctr"/>
        <c:lblOffset val="100"/>
        <c:noMultiLvlLbl val="0"/>
      </c:catAx>
      <c:valAx>
        <c:axId val="619440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4495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2483-ED02-479F-949F-B165E464D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4C7A-E60A-40DD-B0F0-0B066050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94A8-8928-42F0-AA3F-8C3B780D0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C8F7-5E7C-435E-A36F-4C19358CE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86A1-5966-4B74-BCA4-70245435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711B-8CA3-4034-9DD9-350A2502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8DE2-2B4B-4526-AB05-8384F917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8923-777D-4EFB-B4F2-02A8A14F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DA8C-E124-4313-BDA8-0F5DEBA7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39EC-C713-4137-84D0-F0925EB6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0F06-722C-4594-956B-8FEB6182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E217-01D1-4A21-85DD-7930762C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F16DE-712B-43C6-9E3C-A16E2B7BEB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