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58294"/>
        <c:axId val="24577534"/>
      </c:barChart>
      <c:catAx>
        <c:axId val="98558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77534"/>
        <c:crosses val="autoZero"/>
        <c:auto val="1"/>
        <c:lblAlgn val="ctr"/>
        <c:lblOffset val="100"/>
        <c:noMultiLvlLbl val="0"/>
      </c:catAx>
      <c:valAx>
        <c:axId val="24577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8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6F8-303E-4EDF-B673-83392B0C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1E0-2D63-4BCA-8BF7-741A51A4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1E7-7449-40BF-A85D-F07227AD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699-4C5F-4925-AEFC-6D3E4156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4ED-77E1-4E4D-8D3D-0603563A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E15-5DDD-470D-80CC-0EF257E0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B12-DA62-4392-81BE-E78175DB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2A3-7071-4F54-BA88-91369913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E81-3B23-44A9-BF90-A02847AE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7F5-50AE-4082-ACFC-3DF579FE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CA9-3BE1-4AE5-904E-4C4364F6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442-DCB5-462D-9FC0-6E2D479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E017D-158A-4DD8-9C65-FD5CE7FF18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